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02B-841D-4B79-BD45-87E0DC2B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853-C6B5-4C89-874A-40D11DB8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3F0CE-F3D3-477B-AC53-3C52A5F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28F9-6A46-459C-9145-1870D840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554BE-EF93-4454-A71F-BF82537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350F6-2A52-48ED-AA3B-1629C69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AAD26-25DC-4A99-BB7A-EB299938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004A2-FA71-4290-B841-68178B0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CE919-F564-4A02-83D0-ECBC653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CC27B-EF4A-49B7-A734-DD885021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6C5BB-1E24-4624-B2AA-E89667F5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F2011-131C-442F-9221-4AFF08F0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4FB-4188-4155-8128-C1CBB8BF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E4223-A23A-4C4D-8E48-417218F8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C3EEF-8907-4277-963D-6181E65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4AC03-E123-4C98-BC25-0578676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11971-F02B-4FE8-8C22-D8C5BF26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A175F-43E6-4CCE-A57E-A33594B5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FDCD4-5728-48CA-B89F-3A7D5F84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462A5-766D-4B0D-81D6-ACED136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A2559-5898-47D4-A8C9-F0F8729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5060B-7720-4EFC-9907-F26BE382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AD74B-76DB-43A4-B330-7C0879D4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792-91EF-43FD-B747-C69562A8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2188D-87EB-47C9-8066-63033094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BB78-A17A-4B3E-B6E2-446CFEB0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09F-1F2C-4D7A-9B85-8B3807B3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D69F-47FD-46DC-942A-EC5241B1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713A-540B-44AD-8CF9-38CC980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9FDA-90F6-43F3-9C1B-4018F4E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A523-683A-4D69-89EF-17BC410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02FE-5A70-4B20-9855-75648B7F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ABD-7B55-443F-85D9-3D9C5BEF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ABE0-C2AC-45F8-A695-BDC540C6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1A5-8EBD-4D5C-B7B3-A1C46AB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2194-3CE5-4682-8A05-6C7E559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B946-93CA-455F-BB8D-5FFE68C4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DB6E-9DE6-4BC3-A2B6-3E8CB229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55F4-CA74-4B03-8844-5682EFED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A41F-A55A-4652-A052-FB296D4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F160-7B10-42C3-A2E2-7DF005F2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C1AA-67B4-4F57-893F-051E6667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C7E2-7539-43C2-A74D-B2B8F47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AC7-DD3F-4680-9622-D78A5631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6AFD-6009-4554-ABBB-A804EC1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D243-DC21-4DAD-945B-11A4875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B6E9-D949-4155-A9DD-CC1E62F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4AB7-3BDE-4153-9019-922CCA5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077B-8BFC-4B11-991E-E5560770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1A4F-1E4D-4343-B26D-71FE9CCB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5941-9B84-4170-BEC7-81C3CC65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A6FE6-B219-4624-9BEB-F9C7401C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528A-2964-465B-8337-631AC298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72ED-0DCB-4047-B692-C603D0F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60D-95C9-48F3-B694-FFB3DD0D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394C-32A1-42F8-A306-BB894EA4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C994-252A-45A4-9E99-5DBDFF11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BBCC-D6BE-4765-9122-898BE744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4054-6E6B-4FBC-A7CE-6B7C39F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9DE5-D21A-4C4A-860B-FDFA7A6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04D9B-71D4-4355-B5E9-288E5C9A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C037-405C-4068-B68C-761DA3E9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490E-FE71-4F24-B33D-F3A9C418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0876-6FA0-4391-A6B9-EE5BEBBA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5C4F-FC9A-42EE-950D-9D9F7A48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984-ECC1-4E0E-976D-7229051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8873-4918-476F-AD3C-B6709414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0214-812C-433E-B831-D39962E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E734-E895-4871-9FDF-FA011215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5853-B593-4A42-ADB8-9AFFA3A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230F-818D-4F63-9F57-1E9FDC97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10A4-0412-4C95-81F7-D5DED94B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9A92-A645-43C7-BAB7-44B3059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DAE0D-666D-4D41-B1F7-2345E4F4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A585B-912C-4C11-ADF7-2254208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5FAC-1EC2-4581-BDAC-0785F161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97C-8329-4B0F-94BC-4B270D65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53EBF-AA4E-493D-9E3B-4AA0F5AC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14EF-461C-4744-9A58-1080D778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503D4-95C7-40D8-9D35-08B3A8D5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31D8-45F6-4E01-8D5F-653D2B59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92830-06CD-4C0D-B294-F6496C43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29D0-E722-4AFE-B2B1-60C95A4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3F700-FC8C-4427-B8D4-B25A5301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B677-B801-49E5-9B0D-8A6725BC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C42D-9C8C-4E33-8167-8B8B8A78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9086-006F-426C-B87D-DB77AA6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087-7674-4211-ABDF-8C45EE4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890D0-FD7D-4527-A243-1100FBC8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385EB-A286-4171-B9E9-88592496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C23E7-8CF1-4CB1-8D5F-225C95BE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00F1-E5F8-49E0-8387-CC450AF8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3D8DB-84DF-4684-BBA9-67F39FC7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AEEB-872E-475E-B66D-787E35E4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7470-CA89-417F-9035-B0C7338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1ADC8-9665-4254-B358-AA534DAF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DB110-9105-464A-BF37-6BB203B2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878B-04FE-4FA8-9819-E34FD21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2DD-4B60-4ED8-9554-249A282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5126D-7CF1-4979-B0F1-8F3545D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EE7D-A4B7-4CFE-A05F-C72A7736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0930-42FC-4558-B9F7-078960BF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A4E6-4616-44BF-B1D5-F1381D82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D5D7A-D04F-4BCA-B632-E0B7AAC2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83A5-C59C-4873-AB46-3F60DB9E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B241B-34F8-455E-9516-74FADC3A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B0AC-A38A-4BFE-ACB0-A15FBF8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5A93-D3C1-4C1E-803A-268D69B2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AA617-DC42-4C3B-96C2-22897DF4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BD6-4EED-4D07-8131-DA91F7D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ED256-3291-4127-9278-6BC977A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8807F-09CD-4489-B12C-79075AA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17343-F423-4510-8DBD-D46A2DB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D9CE4-B628-4DC1-9B54-C091138D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89D2-A52E-46BB-8E1C-CD1D07B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88098-3355-4418-A171-014E0783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E21B8-C995-4066-8E56-B267BD7A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9D2FF-AB51-401F-A44A-F0743355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4C804-9B62-48F3-8546-62C78FCF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D1330-D365-46B9-8164-2059984C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4AFE-8E17-4821-8219-077C89385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9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6CBE-BA4A-4F65-876B-A59A514206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AC29-1B8F-4B0B-9B5E-B5A2DECD2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71D7-BA4B-4712-819D-F8C33CE78E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06BA-C934-4A0A-B7A9-009CC383E5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E0FF-9812-405E-A419-B8E05CEEF8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A2AA-C47F-4ABB-838B-12EB2434C1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313D-FBE5-4EA0-81D9-0D50A842A9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2D94-5788-41EF-B600-C1E1E5A84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35A7-D36F-438A-BB18-9698090244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s/Solution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d and fish are both found in South Easter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l is a major resource and is found in the cold parts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 is one of the leading oil produ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ssia has increased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4687920" y="1828800"/>
            <a:ext cx="3998880" cy="4038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t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exports petroleum, natural gas, wood and met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5T14:22:00Z</dcterms:modified>
  <cp:revision>5</cp:revision>
  <dc:subject/>
  <dc:title>Russia’s Economy</dc:title>
</cp:coreProperties>
</file>